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1D6-E0E9-4229-8E07-2B223E7B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F587-BA66-4966-A4C6-A6EE8D4F9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FB34-F1A2-449E-A4B8-115471155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50C5-7161-43D2-A6EE-67035EA9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7C21-5DA0-4972-87DC-1977BE1E6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B4EB-6EAE-4354-9AD2-C6B16053F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F698-1372-401C-BEC2-F734FE6B9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D87-EFF9-4F48-8A58-3FEBFFEF4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CD1C-CEDF-4402-8DB9-AE8C67B2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6F1-D5D4-49ED-8B7D-05FF7641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219-FAE9-4C91-9FD8-1C5E3613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0E1-9B59-4A13-A70D-2DA40A28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AE0-ED29-4128-99A9-8618D44F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BF51-96FD-43CA-9B4E-5318FA84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55CB-C630-4307-8271-B8CD743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DE5F-65BA-4EF6-88CB-53E138B7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26E-8BE8-4CA3-80D7-D04D896B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DDBD-5F28-416C-AE3D-ABB33832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8F19-BED7-4018-8DAE-CBB3046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5F66-958E-4F15-8F86-AA277DE5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A56-D9D2-494E-9E9A-26A3C056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FED9-0B97-47D1-AAF9-5BE8B09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BDFD-7B5A-45CE-81C6-8296B493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F1A7-0AB9-4E54-88D8-9AA34CC9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EA4D-4E41-4C9B-A4E7-B30820F4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E53B-1DAD-4F48-8501-5CD38B02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7BF-9396-4664-9474-C72B902B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F34-872E-48D5-AD05-11F544A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48C2-DA8D-4592-B62B-B3E5BAB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E7E-46F6-4817-936E-DD3427D4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310-D112-4A0D-9B0F-4CD6E58A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E2D-C724-4EDD-96A7-8B3AB53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B74-EADD-461B-A780-0331834F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Borders\BackgroundLandscape\GCT00236.wmf"/>
          <p:cNvPicPr/>
          <p:nvPr/>
        </p:nvPicPr>
        <p:blipFill>
          <a:blip r:embed="rId2"/>
          <a:srcRect l="0" t="0" r="0" b="46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Borders\BackgroundLandscape\GCT00236.wmf"/>
          <p:cNvPicPr/>
          <p:nvPr/>
        </p:nvPicPr>
        <p:blipFill>
          <a:blip r:embed="rId3"/>
          <a:srcRect l="60834" t="60843" r="20834" b="18520"/>
          <a:stretch/>
        </p:blipFill>
        <p:spPr>
          <a:xfrm>
            <a:off x="7467480" y="5410080"/>
            <a:ext cx="167652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7E98-5AA0-4B11-930F-92A2F6AF1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Borders\BackgroundLandscape\GCT00236.wmf"/>
          <p:cNvPicPr/>
          <p:nvPr/>
        </p:nvPicPr>
        <p:blipFill>
          <a:blip r:embed="rId2"/>
          <a:srcRect l="0" t="0" r="0" b="22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E75D-6291-494F-92B2-E901623C2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reatest Common F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t is and how to find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est Common Factor (GC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test common factor is the largest factor that two numbers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find the GCF of 12 and 42.  First, we need to make a list of factors for each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609480" y="45720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"/>
          <p:cNvSpPr/>
          <p:nvPr/>
        </p:nvSpPr>
        <p:spPr>
          <a:xfrm>
            <a:off x="30492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286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1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1752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860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2860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52280" y="33526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828800" y="1523880"/>
            <a:ext cx="3200400" cy="147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1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4, 6,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5791320" y="5335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5334120" y="1143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10080" y="1143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410080" y="1676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410080" y="2209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4100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5334120" y="320040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41008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5334120" y="3809880"/>
            <a:ext cx="14475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5410080" y="3962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5410080" y="4572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 x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5334120" y="4952880"/>
            <a:ext cx="12189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523880" y="3276720"/>
            <a:ext cx="3810240" cy="2025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4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6, 7, 14, 21, 4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0" y="5410080"/>
            <a:ext cx="6629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Factors: 1, 2, 3,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914400" y="6207120"/>
            <a:ext cx="6553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est Common Factor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CF of 18 and 27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57200" y="1905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86600" y="12952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6705720" y="190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04920" y="1828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04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04920" y="30481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04920" y="3733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228600" y="411480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04920" y="4343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28600" y="47242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304920" y="5029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152280" y="541008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362320" y="1371600"/>
            <a:ext cx="3124080" cy="147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18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6, 9,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705720" y="1828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705720" y="2286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6629400" y="266688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6705720" y="2743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67057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6629400" y="3505320"/>
            <a:ext cx="1295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6705720" y="3657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6705720" y="3962520"/>
            <a:ext cx="9903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70572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6"/>
          <p:cNvSpPr/>
          <p:nvPr/>
        </p:nvSpPr>
        <p:spPr>
          <a:xfrm>
            <a:off x="6553080" y="4495680"/>
            <a:ext cx="1447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6705720" y="4572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6553080" y="4876920"/>
            <a:ext cx="13716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6705720" y="4952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x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6553080" y="533412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670572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6629400" y="57150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2362320" y="3124080"/>
            <a:ext cx="3124080" cy="147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27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3, 9,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362320" y="4648320"/>
            <a:ext cx="37335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Factors: 1, 3,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2362320" y="6019920"/>
            <a:ext cx="3733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CF: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CF of 48 and 6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5720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45720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990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819520" y="1523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522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52280" y="1981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52280" y="2514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52280" y="3048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152280" y="3657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x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438280" y="1905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438280" y="2362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2438280" y="28195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x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2438280" y="3276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x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43828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x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648320" y="685800"/>
            <a:ext cx="4190760" cy="2025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48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4, 6, 8, 12, 16, 24, 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572000" y="2819520"/>
            <a:ext cx="4267080" cy="2025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ctors of 60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, 2, 3, 4, 5, 6, 10, 12, 15, 20, 30,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304920" y="4952880"/>
            <a:ext cx="739116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Factors: 1, 2, 3, 4, 6,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04920" y="5791320"/>
            <a:ext cx="586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CF: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ime Fact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990720" y="1828800"/>
            <a:ext cx="7696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d the prime factorization of each numb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mon factors and multiply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GCF of 27 and 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14400" y="1752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4"/>
          <p:cNvSpPr/>
          <p:nvPr/>
        </p:nvSpPr>
        <p:spPr>
          <a:xfrm flipH="1">
            <a:off x="837720" y="2286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95280" y="2286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80880" y="2895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685800" y="297180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 flipH="1">
            <a:off x="1371240" y="34290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1600200" y="34290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66680" y="4191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990720" y="426708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1752480" y="426708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80880" y="5105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. 3x3x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124080" y="1752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3200040" y="22860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3505320" y="22860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895480" y="2711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8"/>
          <p:cNvSpPr/>
          <p:nvPr/>
        </p:nvSpPr>
        <p:spPr>
          <a:xfrm>
            <a:off x="2895480" y="2819520"/>
            <a:ext cx="457200" cy="5331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0"/>
          <p:cNvSpPr/>
          <p:nvPr/>
        </p:nvSpPr>
        <p:spPr>
          <a:xfrm flipH="1">
            <a:off x="3657240" y="3352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3962520" y="3352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3526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x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3276720" y="403848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4"/>
          <p:cNvSpPr/>
          <p:nvPr/>
        </p:nvSpPr>
        <p:spPr>
          <a:xfrm flipH="1">
            <a:off x="3885840" y="4495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5"/>
          <p:cNvSpPr/>
          <p:nvPr/>
        </p:nvSpPr>
        <p:spPr>
          <a:xfrm>
            <a:off x="4191120" y="44956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3657600" y="4952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27"/>
          <p:cNvSpPr/>
          <p:nvPr/>
        </p:nvSpPr>
        <p:spPr>
          <a:xfrm>
            <a:off x="3581280" y="502920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4343400" y="5029200"/>
            <a:ext cx="45720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3048120" y="5867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. 2x2x3x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5029200" y="1828800"/>
            <a:ext cx="297180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rime factorizations have 3x3 in comm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the GCF is 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, you can use Our Friend Venn to organize your factor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numbers (look where the two circles overlap for GCF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Content Placeholder 6" descr=""/>
          <p:cNvPicPr/>
          <p:nvPr/>
        </p:nvPicPr>
        <p:blipFill>
          <a:blip r:embed="rId1"/>
          <a:stretch/>
        </p:blipFill>
        <p:spPr>
          <a:xfrm>
            <a:off x="450720" y="212724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Content Placeholder 8" descr=""/>
          <p:cNvPicPr/>
          <p:nvPr/>
        </p:nvPicPr>
        <p:blipFill>
          <a:blip r:embed="rId2"/>
          <a:stretch/>
        </p:blipFill>
        <p:spPr>
          <a:xfrm>
            <a:off x="463860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2133720" y="3657600"/>
            <a:ext cx="76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d factors of both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5562720" y="38862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6781680" y="38862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6324480" y="480060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Straight Arrow Connector 13"/>
          <p:cNvCxnSpPr/>
          <p:nvPr/>
        </p:nvCxnSpPr>
        <p:spPr>
          <a:xfrm flipV="1">
            <a:off x="5334120" y="4419000"/>
            <a:ext cx="1372320" cy="1905480"/>
          </a:xfrm>
          <a:prstGeom prst="straightConnector1">
            <a:avLst/>
          </a:prstGeom>
          <a:ln cap="sq" w="31680">
            <a:solidFill>
              <a:srgbClr val="000000"/>
            </a:solidFill>
            <a:bevel/>
            <a:tailEnd len="med" type="arrow" w="med"/>
          </a:ln>
        </p:spPr>
      </p:cxnSp>
      <p:sp>
        <p:nvSpPr>
          <p:cNvPr id="213" name="TextBox 20"/>
          <p:cNvSpPr/>
          <p:nvPr/>
        </p:nvSpPr>
        <p:spPr>
          <a:xfrm>
            <a:off x="1981080" y="6273720"/>
            <a:ext cx="3886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ic triangle!  Put factors shared by all three numbers here!  That’s the GCF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00:34:05Z</dcterms:created>
  <dc:creator>Administrator</dc:creator>
  <dc:description/>
  <dc:language>en-US</dc:language>
  <cp:lastModifiedBy>Home</cp:lastModifiedBy>
  <dcterms:modified xsi:type="dcterms:W3CDTF">2010-11-14T16:19:19Z</dcterms:modified>
  <cp:revision>30</cp:revision>
  <dc:subject/>
  <dc:title>Least Common Multiples and Greatest Common Factors</dc:title>
</cp:coreProperties>
</file>